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media/image1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63FA-9957-4ADB-86BC-F27C64F4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3D18-4A24-49D6-A082-E918AB8B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A41-081A-431A-A1BA-E8A42BC4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1CC-4354-4806-81F5-16914BB2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B77-3C2D-4B13-85DE-3F6912A0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2329-908E-4AE7-AF17-EC1BE6C7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BA77-9E94-4493-A75B-0348F8FA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C66-4E0C-4E6A-8426-930222B8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3ACA-32A9-4FC0-A7AD-5F2C3B79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8C7-CCDF-496A-92A7-A390E254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E05-1840-4114-A77E-7FF3455E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9BB-8550-4714-9CF7-DC100A97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a8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F73F-8F76-4AFC-8EC8-4EFED32BC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a8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914960" cy="22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Исследовательская работа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на тему: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«Современные продукты питания и здоровье подрост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79640" y="3357360"/>
            <a:ext cx="51130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полнили ученицы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У СОШ №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«А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ликова Е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ряева Анна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.Майский, 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3168720" cy="3456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a8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Причины употребления подростками фаст-фу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Недостаток знаний родителей о правильном питани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Отсутствие контроля со стороны родителей за питанием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Низкий уровень заработной платы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8320" y="2073240"/>
            <a:ext cx="4038480" cy="3579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a8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640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Современные продукты питания – прямая дорога к ожирению, сердечным заболеваниям, болезням желудочно-кишечного тракта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Подумайте о своем будущем и будущем своих дет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897440" cy="451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a8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Цель работы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3280" y="1484280"/>
            <a:ext cx="3672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определить  какое влияние оказывают современные  продукты питания на здоровье подрост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4319280" cy="417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a8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Задачи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На примере своей школы изучить и проанализировать проблему здорового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Сравнить данные медицинских обследований (за период с 2000 по 2010 гг. по школ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Выявить проблему и предложить варианты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Способствовать формированию у школьников культуры «здорового питания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Методы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Сбор и обработка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Анке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Анализ и обобщение полученных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Мониторинг и диагно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a8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Гипотез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Мы  предполагаем, что воздействие современных продуктов питания, отрицательно   действует  на  неокрепший  детский  организм, вызывая при  этом различные  заболе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319640" cy="300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a8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43280" y="33120"/>
            <a:ext cx="3530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Чем может грозить грозит быстрое пит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стремительный набор в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инфарк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диаб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снижение иммун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необратимые изменения печ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повышения уровня холестерина в кр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372360" y="260280"/>
            <a:ext cx="2419200" cy="3241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32360" y="4724280"/>
            <a:ext cx="3384720" cy="1906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50920" y="4292640"/>
            <a:ext cx="2592360" cy="2124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rcRect l="0" t="0" r="31748" b="0"/>
          <a:stretch/>
        </p:blipFill>
        <p:spPr>
          <a:xfrm>
            <a:off x="250920" y="189000"/>
            <a:ext cx="2314440" cy="3527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a8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Самые вредные продукты быстрого 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374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Картофель-ф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ладкие газированные напи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Картофельные чип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ладкие батонч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интетические об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осиски, сардельки, вареная колбаса, паште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4691160" cy="403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a8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Результаты анкет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9800" y="1828800"/>
          <a:ext cx="82663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828800"/>
                    <a:ext cx="82663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a8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39640" y="1343160"/>
          <a:ext cx="7777440" cy="494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343160"/>
                    <a:ext cx="7777440" cy="494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6a8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Питание учащихся не сбалансировано. Оно не обеспечит молодому растущему организму достаточное количество белков, жиров, углеводов, микроэлементов, витаминов и соответственно, калорий и ведет к таким заболеваниям, как: анемия (недостаток мясных продуктов), ожирение (избыток углеводов), авитаминозы (монопитание), нервные расстройства, сердечно-сосудистые заболевания, нарушения эндокринн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15:17:22Z</dcterms:created>
  <dc:creator>UserXP</dc:creator>
  <dc:description/>
  <dc:language>en-US</dc:language>
  <cp:lastModifiedBy>Виктория</cp:lastModifiedBy>
  <dcterms:modified xsi:type="dcterms:W3CDTF">2005-01-03T10:33:34Z</dcterms:modified>
  <cp:revision>5</cp:revision>
  <dc:subject/>
  <dc:title>Исследовательская работа на тему: «Фаст-фуд и здоровье подростка»</dc:title>
</cp:coreProperties>
</file>